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2297D-E6AC-4E11-961F-1844AE87E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626F8-4D17-4359-A834-2639AD55E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17806-C0C3-4094-AB1E-E7FAB6041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650F2-3CEB-4EE6-8F1F-3699FD622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5D517-51FB-4B29-8648-6F6181CBF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B05BF-B428-4B75-B395-53DD508E6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8C87C-28C9-4BF5-A956-A86AE829C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5DA3A-D674-47CF-8560-26F607508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E7A53-43C4-4D00-9D9A-3DFC59EE0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EC14C-7FB6-456E-95C4-6B64D19EA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73F8C-945A-4E71-A3B1-8F5B922A3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ABE6C-060B-4880-98EE-ED952775A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3B6EA-2987-4173-B41F-A4FECB2AE3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685800" y="5562720"/>
            <a:ext cx="4038480" cy="7038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- Et ils ont tous les nouveaux jouets de la 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é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évision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4952880"/>
            <a:ext cx="266688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u es 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ûre que tu n’exagères pas un peu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09480" y="5562720"/>
            <a:ext cx="4496040" cy="119124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ê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 que Gladys a une grande 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œur qui a une moto génial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33520" y="5029200"/>
            <a:ext cx="8381880" cy="3988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En plus, Jean-Christophe a un bain immense dans sa mai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676520" y="5181480"/>
            <a:ext cx="61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84720" y="5181480"/>
            <a:ext cx="8196840" cy="45972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uis, carmen a une montre-comme-j’en-ai-jamais-vu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371600" y="5257800"/>
            <a:ext cx="3657600" cy="82548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… et des livres terribl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38080" y="5257800"/>
            <a:ext cx="6019920" cy="581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--c’est pas jus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4940280"/>
            <a:ext cx="3809880" cy="19227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’est vrail! Tous les jours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à la collation, Maurice boit son jus de fraise avec une super-paill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191120" y="4495680"/>
            <a:ext cx="4038480" cy="15570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Et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à l’halloween, mes amis ont toujours un costume plus beau que le mie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752480" y="5181480"/>
            <a:ext cx="3505320" cy="131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C’est fini? Tu sais, il y a quelque chose que tu as, que les autres n’ont pas et n’auront jamai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57200" y="6248520"/>
            <a:ext cx="14479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Quoi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6781680" y="0"/>
            <a:ext cx="23623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n, moi! Ta mam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5562720" y="228600"/>
            <a:ext cx="29718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urquoi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447920" y="5486400"/>
            <a:ext cx="46479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-Tous mes amis ont un animal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5029200"/>
            <a:ext cx="32004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u sais bien que tu es allergiqu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04920" y="228600"/>
            <a:ext cx="2057400" cy="22885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 tout cas, ils peuvent manger des bonbons tant qu’ils veulen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5T20:40:32Z</dcterms:created>
  <dc:creator>CVJH-LAB</dc:creator>
  <dc:description/>
  <dc:language>en-US</dc:language>
  <cp:lastModifiedBy>CVJH-LAB</cp:lastModifiedBy>
  <dcterms:modified xsi:type="dcterms:W3CDTF">2008-03-07T21:07:21Z</dcterms:modified>
  <cp:revision>3</cp:revision>
  <dc:subject/>
  <dc:title>Slide 1</dc:title>
</cp:coreProperties>
</file>